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8400" y="401904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26400" y="166500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4040" y="166500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98400" y="401904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26400" y="401904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4040" y="401904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91D-24F7-46D6-8966-B0B43717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7E3-352B-40F4-86FD-6ADBCD1C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DD0-DCCE-42D4-9DC7-86C3AE42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C8B-44E0-485D-B7F2-FA60D31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28C-7460-4B03-81D2-1D0F990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C77-E366-4D26-9855-2B90A888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1B3-828F-496F-BA5A-D587B2D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108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D79-11EE-4DC0-8E26-CF1A1D3F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1904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0B0-1D95-4FA9-8397-323DD61D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8400" y="401904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6C3-340C-4A15-A75B-CD946A2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108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A0D-7EE7-492B-9F5C-82905FEE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26400" y="166500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54040" y="166500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98400" y="401904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26400" y="401904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54040" y="4019040"/>
            <a:ext cx="250236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2E9-DE02-4626-BD36-9DD02327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9840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401904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665000"/>
            <a:ext cx="3792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98400" y="401904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863640" indent="-28584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282680" indent="-22860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70172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120760" indent="-22860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12076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12076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3080"/>
            <a:ext cx="8931240" cy="398880"/>
          </a:xfrm>
          <a:prstGeom prst="rect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eaeaea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eaeaea"/>
                </a:solidFill>
                <a:latin typeface="隶书"/>
                <a:ea typeface="隶书"/>
              </a:rPr>
              <a:t>章  </a:t>
            </a:r>
            <a:r>
              <a:rPr b="1" lang="en-US" sz="2000" spc="-1" strike="noStrike">
                <a:solidFill>
                  <a:srgbClr val="eaeaea"/>
                </a:solidFill>
                <a:latin typeface="隶书"/>
                <a:ea typeface="隶书"/>
              </a:rPr>
              <a:t>Windows 2000</a:t>
            </a:r>
            <a:r>
              <a:rPr b="1" lang="zh-CN" sz="2000" spc="-1" strike="noStrike">
                <a:solidFill>
                  <a:srgbClr val="eaeaea"/>
                </a:solidFill>
                <a:latin typeface="隶书"/>
                <a:ea typeface="隶书"/>
              </a:rPr>
              <a:t>简介及安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" name="gif239" descr="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E081-3A76-47AE-B833-AFB7BF0C36D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1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章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简介及安装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172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1" action="ppaction://hlinksldjump"/>
              </a:rPr>
              <a:t>6.1  </a:t>
            </a:r>
            <a:r>
              <a:rPr b="1" lang="en-US" sz="3200" spc="-1" strike="noStrike" u="sng">
                <a:solidFill>
                  <a:srgbClr val="33ccff"/>
                </a:solidFill>
                <a:uFillTx/>
                <a:latin typeface="Times New Roman"/>
                <a:hlinkClick r:id="rId2" action="ppaction://hlinksldjump"/>
              </a:rPr>
              <a:t>Windows 2000</a:t>
            </a: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3" action="ppaction://hlinksldjump"/>
              </a:rPr>
              <a:t>的简介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4" action="ppaction://hlinksldjump"/>
              </a:rPr>
              <a:t>6.2  </a:t>
            </a:r>
            <a:r>
              <a:rPr b="1" lang="en-US" sz="3200" spc="-1" strike="noStrike" u="sng">
                <a:solidFill>
                  <a:srgbClr val="33ccff"/>
                </a:solidFill>
                <a:uFillTx/>
                <a:latin typeface="Times New Roman"/>
                <a:hlinkClick r:id="rId5" action="ppaction://hlinksldjump"/>
              </a:rPr>
              <a:t>Windows 2000</a:t>
            </a: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6" action="ppaction://hlinksldjump"/>
              </a:rPr>
              <a:t>的特点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7" action="ppaction://hlinksldjump"/>
              </a:rPr>
              <a:t>6.3  </a:t>
            </a:r>
            <a:r>
              <a:rPr b="1" lang="en-US" sz="3200" spc="-1" strike="noStrike" u="sng">
                <a:solidFill>
                  <a:srgbClr val="33ccff"/>
                </a:solidFill>
                <a:uFillTx/>
                <a:latin typeface="Times New Roman"/>
                <a:hlinkClick r:id="rId8" action="ppaction://hlinksldjump"/>
              </a:rPr>
              <a:t>Windows 2000</a:t>
            </a: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9" action="ppaction://hlinksldjump"/>
              </a:rPr>
              <a:t>的网络类型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10" action="ppaction://hlinksldjump"/>
              </a:rPr>
              <a:t>6.4  </a:t>
            </a:r>
            <a:r>
              <a:rPr b="1" lang="en-US" sz="3200" spc="-1" strike="noStrike" u="sng">
                <a:solidFill>
                  <a:srgbClr val="33ccff"/>
                </a:solidFill>
                <a:uFillTx/>
                <a:latin typeface="Times New Roman"/>
                <a:hlinkClick r:id="rId11" action="ppaction://hlinksldjump"/>
              </a:rPr>
              <a:t>Windows 2000</a:t>
            </a:r>
            <a:r>
              <a:rPr b="1" lang="zh-CN" sz="3200" spc="-1" strike="noStrike" u="sng">
                <a:solidFill>
                  <a:srgbClr val="33ccff"/>
                </a:solidFill>
                <a:uFillTx/>
                <a:latin typeface="Times New Roman"/>
                <a:hlinkClick r:id="rId12" action="ppaction://hlinksldjump"/>
              </a:rPr>
              <a:t>的安装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硬件兼容性清单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硬件兼容列表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rdware Compatibility Lis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CL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列出了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支持的所有硬件设备，在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提供了这些设备的驱动程序，它们都经过兼容性测试并且可以在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正常运转。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文件系统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计算机内的硬盘，可以被设置为一个或多个磁盘分区，在安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时，就是要将其安装到磁盘分区内，不过这些磁盘分区必须先经过格式化。在格式化之前，必须先选定要将其格式化为哪一种文件系统。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支持以下两种文件系统：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AT/FAT32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TF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6148440"/>
            <a:ext cx="144792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eaeaea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.4.2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安装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6007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．开始安装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．搜集与该计算机有关的设置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．安装网络组件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．登录测试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7644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-3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10360" cy="3089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75760" y="54100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-1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登录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148440"/>
            <a:ext cx="144792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eaeaea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5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endshow"/>
          </p:cNvPr>
          <p:cNvSpPr/>
          <p:nvPr/>
        </p:nvSpPr>
        <p:spPr>
          <a:xfrm>
            <a:off x="5920560" y="626436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本章学习目标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2133720"/>
            <a:ext cx="516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简介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特点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网络类型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安装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简介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系列平台软件针对不同的应用场合，分为四个版本：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 Professional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 Ser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 Advanced Ser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182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 Datacenter Ser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.2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特点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6388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操作简单，功能强大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强大的硬件兼容性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全面的软件兼容性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系统更加健壮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强大的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TFS 5.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磁盘文件系统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全面支持活动目录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52480" y="1371240"/>
            <a:ext cx="570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远程安装操作系统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永远完整可用的软件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增强的网络打印管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磁盘配额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支持终端服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公用密钥体系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148440"/>
            <a:ext cx="144792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eaeaea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.3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网络类型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工作组结构的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网络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可以利用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将网络设置成工作组的结构。工作组由若干以网络连接在一起的计算机组成，它们将计算机内的资源（例如，文件夹与打印机）共享给网络上其他用户访问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因为网络上每台计算机的地位都是平等的，它们的资源与管理分散在网络内的各个计算机上，所以，这种工作组网络也被称为“对等式”网络。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．域结构的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网络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也可以利用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将网络设置为域的结构。域由若干以网络连接在一起的计算机组成，它们将计算机内的资源（例如，文件夹与打印机）共享给网络上的其他用户访问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域结构的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网络内可以存在如下的计算机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域控制器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成员服务器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其他的计算机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6148440"/>
            <a:ext cx="144792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eaeaea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.4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安装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6006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.4.1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安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硬件准备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.4.2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安装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aeaea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6.4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安装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ndows 200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硬件准备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硬件设备的需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PU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：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entium l66MHz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更高级的处理器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至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4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B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ardDisk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建议至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GB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过为了提高系统的效率，当然是越大越好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网卡：一块以上的网卡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显示接口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VG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显示卡与显示器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光驱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倍速以上的光驱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其他设备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软驱、键盘和鼠标；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1:42:00Z</dcterms:created>
  <dc:creator>新人电脑</dc:creator>
  <dc:description/>
  <dc:language>en-US</dc:language>
  <cp:lastModifiedBy>新人电脑</cp:lastModifiedBy>
  <dcterms:modified xsi:type="dcterms:W3CDTF">2002-01-23T04:43:45Z</dcterms:modified>
  <cp:revision>14</cp:revision>
  <dc:subject/>
  <dc:title>第6章  Windows 2000简介及安装 </dc:title>
</cp:coreProperties>
</file>